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0A929-0FE2-4FE8-9904-B9140E76A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CFCE08-3916-47E5-95C1-BE1454E67ED5}"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B8637F-7CB1-4181-9D2D-E1E1588468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5121211F-6C52-48F3-AA5E-9E118579B42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7E0A00C-F912-474F-AC49-9724CE19A6D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63D37BF-BB7F-4BF5-B663-B0A2E5A32AD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0E8AF0B-EB9C-4E0F-B95E-66F30E50AD5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157ED03-E5F4-48BE-AFD9-3F2BF807799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89C5D93-88DF-433E-8659-1EBE5ABB10D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09FB359-D953-4918-8E8A-EC70DD9144A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E53A0A3-4CF4-4D22-8D9E-9076527C361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DAC8E57-87BE-420D-904F-8ED58B1BB5A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BFE2014-89EB-440C-B10F-0F13B188808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23A453C-29F3-439C-B76D-8770D20BE45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78180EBC-59A0-4F2F-9BE7-7DCF5AC5171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D8ABFEF-5532-4368-ABD3-D19F77DF920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85835A7-EC06-46CE-8025-7A070F8D335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3F913ED-40DB-46BD-B43B-0D5B350266D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0E42B3C-3223-4E69-9095-B9CFCB7A25E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949AFF5-0173-45B5-91EB-0F71F03A4F0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8A7B412-2072-49ED-9397-F7F775B09C2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69205F8-8255-4CB8-B1AD-2F1A207937E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C2745C6-901E-42A1-9572-A55D38984DE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2E9EF9F-6DF4-4011-A03F-47D8F6FF4E0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1D2752D-7E18-4228-A7B4-A5340CE8556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00672E86-9D84-461E-8000-6C21C3D1BA8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1AD6276-ED0E-42DB-961A-3B5BE9EACE0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B4D9BA20-5313-483D-9BDB-AC69D32290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FB4632A-1790-4994-B3AD-535510453F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ECF945E-F6C9-4266-8F7E-9B576ACC18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A6C3A72-944A-4B3A-A562-52CD5479C5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7545B77-E9DC-4745-BECF-51B39E446E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8AF0152-5637-4CD8-B6EF-B0284593B3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2748C72-A86A-4470-AAB4-BA8FBA19EB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6EDC5A7-F56F-46E1-AD60-EA32E9BC9B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0ED4B8E-36EA-4831-A0AF-D2A2088413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EB84D38-13BF-4B9A-870E-901741A5C9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8A6586E-A631-4B2C-A896-B569A4776A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30BF35FD-E6E5-4430-BE18-31357BBEF9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92CCFFFD-B6CC-47E7-88A4-AF89B48A16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B329C1F3-C9EE-43BE-AD8E-96A9CD8AA37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D1108B3-B5A6-4DF0-B3BC-FFA5441757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F739628-6837-4334-B088-06A394C7E4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32C412B-BA34-4196-8E25-4F100DF09F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EC2BF4C-F08C-4B6F-9CA1-9C216C677A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071A0D1-D97E-4C81-B01B-3877AF7AC1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2666D00-E32F-47DD-8304-F715D13439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E244A37-AF26-48FD-9240-D8C470E02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E50294A-252C-4C15-88A1-06D9A38927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4EB522F-FB02-48F9-952D-B0E025390E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1B20816-8EA0-4B8A-99A8-7808912788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2A5934B-2D56-4D8B-A58E-31D68C5E948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7D23E80B-E86E-4DA4-8C1B-73B5A3E6F1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FFADEC5D-A923-435F-9704-5265868E76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D011F8C-CEB0-48BA-A6E6-B74B4CAC4F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5D2417D-EB75-4FFF-8083-B8CF302E39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BAB04CA-BBF1-434A-A36B-43A119D559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1CCB46E-8B9A-4C20-BFAE-FE4E9F188D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3D2DC6A-7002-4C49-BC97-9E5F79B826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8EE5175-A7C0-4203-BF32-99CCE7BB12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DFC8502-6D69-4A76-9561-49816CA59B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C71FCEC-1758-4C56-B9DE-AABFFFEAE9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366B64B-46A8-4A63-9100-437B9B63FC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5372F3B-CB55-4752-87ED-B4DCC8A675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3EC1FE93-878A-477F-8A76-901527F39C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B46494A7-B07E-47CB-8A27-34477101B30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2B892D54-D2F3-4327-A70A-025F596C5C1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96DCDD2-D028-42AE-9AD1-E575C9978A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4A53A4F0-3806-46AB-96E5-8BCC4749BF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1D2F8E-F52B-49D8-A42B-9A8D12D4E0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F3C43785-0874-4CDE-9886-72D711F886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DA6E140-942F-4968-92DC-A7C788CA73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5022709F-4254-4F49-A317-B0CDC9CF93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C15371F-673F-4F5D-AC34-1330B5E6FC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C150A9C-0085-43F3-A70F-2772BF493E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25FEF78-0EC4-459D-8DA2-89A93A65BF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2173C7E7-64EA-4664-B370-F487006BB1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A45D331D-504D-4A8D-B44D-E02779D8F8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48E189E6-CC8C-49C2-9EAF-6C58A3E507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DE14D5BE-6123-4CF1-B9C3-05DE1D92246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1339790-B301-479B-B177-43A5B13A5C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B535CC40-164C-4598-B003-E43853240C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B6E9999-4129-4C13-A485-EF95DF1CB0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18416DF6-E16A-47EF-8708-05EEC1F95E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533D39B-C18E-4870-B9F9-61D4CB0952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F5F26C9C-3B2E-4B4B-8359-02CF1B6D8B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B402EFD-D6BC-4495-AF87-F734342A34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54146E9-0E1B-4308-9363-A58D25DB47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A844E52-F6C2-4231-94C8-80FCCF04C2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9BF1C23-1D94-4B47-B59F-069B550D51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3C01A4A3-D43C-4557-9E3F-A7636D8D08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5DB02D7-DA2B-4A34-94A4-4286C1B1CA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ED60AC8F-9784-4423-B180-207643DEB6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595ACE44-0E60-4EEE-9226-78528BE05E8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6CDE4D2C-A7CC-4428-87EF-026056A320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98BF803-64D1-4F84-942A-16B5A459D4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F84C1875-3F5A-4AE0-810F-7037BAF405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D4602FC6-D99D-4641-B927-D7C912F6F2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91FC7EFF-2E4D-49E1-AA87-99ED80C023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D50D00C-4F8D-48ED-BF6D-E0519A76CC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5AC4D57-C6C2-43AC-9753-6F0948F2BC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F20D8CC-662A-4E4C-B4DF-F3DA28909A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20DA73-29A0-4C2B-9508-C0265FC9D2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2EFF95CF-2B7A-4D07-BB6A-BB91238696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28D12AE7-3B10-442A-ABE6-CCD2EFAAA90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2AD5A0FA-4A84-4CC0-B167-087485F22D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05E58422-2A50-4E9F-976C-2AA654566F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EAD584B1-F7D8-4BC1-9753-5058DE227A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B2D7D6BE-0C8C-41DC-B321-3E0BBF9E6F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CED34418-5702-48D1-8887-4FEB9C9B38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7FEA74E4-592F-4ACF-91D8-AB282616AB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B821917F-BDE2-4838-90BE-045EEF418B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F586EF56-6520-4AA9-85B5-BAC8811365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D996E422-9143-4F61-8D5D-43415A504D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651D93-B026-4845-B2C6-E4A728F3A2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6E6047B-9087-4664-AA94-A7CF437189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39E84E0-9402-4405-B26B-740B3307E0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7A357695-7A78-42FB-8F11-9941C2AF48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895121FE-66E9-40AE-8B26-1746147335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90D81AC0-ACBF-48D6-AD4F-7A52EF2EFD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9E6B7F90-29D0-4C9F-9D5E-DA303428893D}"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182CCD2E-ECA8-4AB5-86D4-F60A35D1F654}"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21EC9816-8B06-4A4D-9AC2-C0EC5BCD3983}"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5B4F2A56-85F8-49F9-8A6A-886782ADFD8F}"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962AE453-7F76-4096-835B-609B263A2D84}"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5D8B38-FDB0-4026-87AF-208DE50148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0603D13A-CB7A-4209-991B-830178F64200}"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41F56BB0-ACD1-4E2F-8C58-160D08E2190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1A821D6A-135C-4FC0-928F-2B9881C0753B}"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45F22652-3E46-4BBE-8814-016265C010CA}"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39123E8F-7632-4576-9458-142655FE1DC1}"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95C7A3D4-7265-41F9-88C6-3275B3D53472}"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3194AEBD-B518-462F-983F-CBAB4501FCF8}"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5A764A27-A74A-4EA6-A3BF-EF5FA5623555}"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B1D1F24A-DB2B-44B6-BA4D-6083B6625127}"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D5487B59-B9D5-48E5-9C78-731ED983EC4B}"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E9F131-0F35-4AE3-8CF4-3BE1A78F14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B7B5BD7D-D7AD-43DE-8C11-DD56E5E9476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7F151C55-9570-4A97-9827-EF0B3D29C5AF}"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ECAAD0B1-860A-422F-A2FF-2009BBC96B8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0AC10538-3D44-4DD7-A524-F258384D203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A93E01A-1BA5-45C6-ACA9-CA9D5BDDACF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12F35EB7-7470-4A9C-BEC0-31A382D435C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7B67D57B-0281-45B9-A1F4-0229A140302F}"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A25FA8AE-1141-4C6B-8B0A-B31FDDAFEF81}"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19FC6C75-2EF4-4FAF-89DB-D53A31F8AC91}"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90D2282A-7C37-472D-BA48-E12D83E8AAFE}"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3F48515-CDDB-42DA-B5EA-570964197CF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57058B17-63BE-4A07-B61F-E2BB8A245B1E}"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09BD1610-FEEB-4E8C-8A0D-9F206E6F4D48}"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8DE9927F-65B7-4789-A3ED-F836E7DAAB5F}"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70BCEA54-DBAA-406F-A7C3-848A47254A39}"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A424E6AF-0AE3-42D9-BCF4-B09900817CA9}"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97F5074C-882C-4F48-A37C-99756F58588F}"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44D5330D-1098-4B52-A1B2-E135E07A4663}"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B1C023A-7A68-4864-BFA9-9220C19C930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64F0B573-CC50-438F-8C3F-88F60DA1442F}"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D689F33C-B677-4BA7-AAB0-6D2C7DC98995}"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266D977-7759-41C2-9D9F-09A5EC71260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0F634F79-A05C-41B0-AFBA-454F572E4F4B}"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931F6799-F89F-4C35-81D8-3FCA8204FFED}"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B36A6D6E-97F0-4F9F-BF1A-99A7F313E6FA}"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612D676C-FB49-4409-A17D-9D82EAFAE204}"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BE06C361-F09C-47CC-963D-4E016B3B3CDF}"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AF3B939A-E2BF-42EB-B08A-B3F7EB8E4C43}"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7356A700-5A67-4902-B6C5-33BBFA22E377}"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E168AA87-EFC0-406C-91E1-F866FFD527A3}"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2860FB9F-9A19-4E70-90F3-E94920E79C8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3122B88F-E2CE-4054-A30A-2FB2D88A7793}"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9C55CF1-9625-4946-A0EC-3ED5A8B2D86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E309253C-253B-4726-9C82-4D19BD4C46A3}"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F42602E6-06EF-426D-9207-1602E5FD8651}"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43FC72DB-B3A2-43FF-B983-0DBBD1122247}"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D698A8E1-862F-4B97-B8E9-7CF5BB1AB74D}"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C3FD3BB1-803A-41D3-BC1A-F3F24E6542E4}"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44CE9AF4-D627-4C70-9888-AD00C6AE3478}"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ECDAF3E1-C786-49D5-BDE5-E4F69784D335}"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3299010C-639D-423B-8300-CDE408920770}"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204A504B-D91F-4144-B8C8-099808913AD4}"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9EF02EBC-2395-4CA5-8180-2E38304A93D8}"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7A7E882-E72B-4B7B-B50A-8A9B3145980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8EDCF58C-8400-4D5D-8E31-FED9C8D39245}"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CDF8F6ED-CE7F-44B0-ACB2-9805934B44E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97BE6B72-4B1D-4B1C-8242-15FC2A4A2AA7}"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09CACA68-D40D-4787-A5BB-A2915966ED2F}"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EB3EDC7F-FD88-4D79-AC92-DB15F4B946D8}"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1CC4D094-96E9-4A66-AF69-A8232CBE653E}"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CF176D96-F4FF-4C66-8F65-FFA94C32DD91}"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F83947D7-8B15-4AF8-95A9-C0F3CA59E0FD}"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901046C6-8645-4B39-8127-A55A753CE6BB}"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DF83FAEA-CE5A-4C99-9EA5-71069849B207}"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3D46D3C-B598-49BE-A922-AC0F39B7270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A2F55358-A8F9-46D6-92CE-A2870B84EB65}"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356BC145-6C6B-4305-A7D2-D4B27FCD5D33}"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51F6325C-1684-4F39-8BB8-2FCA181D0D53}"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25D4147F-6D86-4438-847F-C40A50869FF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CF8BE58B-83B6-44E5-8462-6B6CE87BFD17}"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EAF7FC6D-0F8C-4E9F-A620-A3713F0A4CF1}"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C017C901-B424-4FB9-9017-81A4DC7D4134}"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32BB4EB8-5A59-4EEA-8FD4-520E44EC70AA}"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F2A260FE-0048-4DFC-80B2-063B7FFB96A1}"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9C857A5C-2B79-486F-8566-167CD854906C}"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F3AA265-B5CE-42D3-9D97-DC7EE3D4DF3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C6B45285-05FA-431A-B23F-FC68D2F74A66}"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853B770A-5EB7-4A71-A97D-98A4C262594D}"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68BB64DE-0BA1-4713-B1DB-99F7DB71D591}"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BAA051A5-4469-4834-B79C-0AB65687B8DE}"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2CF45E47-4F07-4FB5-9192-8ECBE5CBA9AB}"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EA16CFC3-72CF-4CAD-929F-9744CED40396}"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97B309CB-9A1C-4DF2-95E2-84C0D9868DC4}"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BE3FE071-B747-4B58-A029-BA93CFC04C53}"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DFD373E8-782B-4102-A4DA-BE9E24375046}"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5C44927D-B7B0-4AA2-81A5-EE9C7B54669A}"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303C224-BCF7-4C0B-89CD-D2D50683AA9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87D2F8DB-97BF-443E-ADD1-799067C923E0}"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215C55D9-12B5-4158-B504-06432E699267}"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F8BA0A99-F6C5-42F8-88A9-65877E322D47}"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F1AFB775-10F7-4247-9B99-8CADAF95E12D}"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FBDC4F70-6D55-4094-80EC-32FE0366E7CE}"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84F7574F-C166-43AA-A627-7BA1E64EC737}"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E5F0B0CC-0220-4F4B-A745-44ED65236679}"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C1620CA0-779D-4FE0-8905-FDBC042E09E0}"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3719A54B-8303-4741-A9B2-DBBE83B4DE35}"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56B2F1C0-FF4F-4F90-B7D6-CBA7C3858A17}"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C90BD859-3FD0-4167-B71F-3C161B07AB8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D8EDCD2-773F-40F8-8201-C267FEE354E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7CEBBB8E-C933-4AC0-B713-5CEC7EC7552A}"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C2E03D2-155B-4A1A-A426-72D9532DA7A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6111983-7FB0-481F-8219-3AC38B752D6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D50EE6A-B3DA-45ED-B2CB-88B59227ABD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9FD2A1F-C4DF-4C28-AC18-D03FC49B84C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21F4688-966B-445C-8271-5A88FA3882F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7B6A077-C15C-4663-AC71-FCCDF68CC4E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BFCEEA8-BD61-4926-826B-132FE429A71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2ED2235-7EBB-49FC-8B31-0ADF6A788BA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925CCE6-D009-488F-A53A-4BA7B61DA00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BFC898C0-2F97-45F6-955B-803F793A62D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1960D15-446C-42AA-BCC0-06B4B38590A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6D5B2D0-BB98-4807-A0D6-856A29ADB0C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986D024-B255-486F-B527-C87F9382E2F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F6FCFC2-CDE8-4BBF-9571-017B3B8B312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377EAD7-711C-47F9-AF98-036BEE51E6D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6E9BBA6-EB86-420A-86FF-E913B4AD596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5CF0FA5-DEF7-4C0A-A7BD-88EBE503BC2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32A3ED5-E3E0-484A-A5A5-0D5A8E8BDA9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24ADB72-D79B-47CA-BBAF-781F999070E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7494588-1A08-4B1D-94CE-E47E723CA24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B99FBBB8-FF12-4915-97A1-A1C78DB2AF2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1342923-979F-4D6B-9BD9-AED3FE96A49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B6F3D6F-C171-42B8-B4A4-9E95EE88D70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8D91E95-7B99-4C5C-9713-47E5029C838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F1CBCBD-C8CD-4B7A-887C-2E5920F86A8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C0365F5-73C1-4831-A3DC-D2B8A40A274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4B17916-8747-4CBF-ADFD-0334BDE888F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F5C460B-C305-41AA-9E8C-52639590025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347AE94-EA31-4284-A355-AC7BE735DB7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051793E-A66C-49FA-9E62-3F462104BD2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724DED0-B2FD-4F32-A934-F88D8B9D689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C2AB08BA-0F3D-419A-A044-0BEA60EC887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23F3668-28F2-4198-9B4A-7AD3C033E22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FC9BA33-30AD-4F56-A718-372BE401CB0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2383BDC-C08D-4662-BF7F-587F237358C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BDEEE2F-BE8A-4CDA-862C-6DD934DF88B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0C1D411-177C-42DD-9EC0-3C43D2FDDBE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495ACF8-F78C-4A8D-AB28-E9F91CD1539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E4F2431-446B-42A0-B6E1-ED777722D13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01E106A-16DE-4908-83AC-0389A71F05E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15F4F4E-A79B-4340-BD5A-A5823664882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F7D5915-BC26-449F-8072-B14B52C592B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C95F1461-C59E-48DD-BE82-CED4F75075D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9DEB40F-1F82-4A19-B6AA-674DE914D36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5343563-81A5-413F-BC3F-5B71F7AD9CE7}"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8157D85-A1B7-4A00-A24D-17D422F4DE2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BEAFA4A-A3A7-4474-93D9-E658BF2F615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C0DB354-6B48-4B17-8BCC-3020B8C3A7C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092F2C6-D10A-457E-BE75-22E77DE2292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7931413-9AC7-4845-8F40-FCE02648C29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C3AE0C3-5F0E-4AFF-8F34-970C23C86E7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69FE67C-17C2-47B9-902D-521F794469F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74EF77C-2AA8-4FA1-B340-4FCE29D1D69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4EA2473C-3685-43AE-A6BB-919EA8BF014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B4545EB-50B6-4778-96FE-CA4539555F2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BE2A190-6524-4AA2-B5E9-7A4D6378CDF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F56D2EA-4DB5-4863-8B7F-EE250CA26F9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64542B0-E0B7-4898-AEF1-A7FB1AF6D2F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46A2465-2072-4163-A962-EDAAC4C28FD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B3385CF-1B25-4154-A474-4D0702E3F0F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C5A21FE-9C27-4C5B-B5D5-EF5CE9A30D0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9C0676D-D23E-4448-B635-1BC9EB07F5C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E9E80D1-1C79-4C91-A54E-A189458298F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1B49BE6-2F8D-408A-ACEE-020222192BE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4892BC5D-3228-4589-8748-356B5192EA3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ACB00BA-5B33-4075-8391-046D82BFDEB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C3F14DA-780E-44EB-BCC8-C6118C98F47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CC98686-D4CF-4A94-B3A0-00ABCFE142B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EB9B557-0A7B-4F02-B6AF-A7163ADDF2D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D7A271E-7982-4C1B-9937-2BAC859FBC3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6FE265C-50A6-4A8B-B848-0F312FECEF6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2BEF598-A045-400C-8F3C-9D1114B13861}"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D0BDAA4-6FB4-4EB3-A9B2-00EBEFBC1AD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5C6B6D1-50A6-4866-B15B-2FE2CA58C4E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17983A6-B10B-4764-8D47-F08CB4108FAF}"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D5F8-96A5-4A8E-9BBB-238CED6C7CB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2526-DA9C-4217-9F60-CB605352AE4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560C-BE7C-4993-8F9A-EFEAE2C4E78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7FC6-EB7A-450F-A3CD-C50FCC0C20F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D62E-FF6C-4E93-B128-149740B23C4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7A39-9F55-49D5-8E53-1F0C2A8E159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CD4A-B4E7-4918-ABEC-C9A8D6CCB523}"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C829F-DEB9-440F-A563-192B9135DC2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6ADE2-6861-41FD-A8C3-50F8EA5F69D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E3E5-AAD1-42F2-BFB6-96412B31022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1753-94A5-4C91-B6B8-DB275B36768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0520-5B86-43FC-8152-3DFFD6B843A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8B5F6-82B1-406F-889C-E73ACC5F703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107D-7357-4692-B45D-DB490E57377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011B-18E7-4E97-9EB6-5DF1E184765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150A-9770-49FF-A7C8-BD398EF396EC}"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8E500-1CB2-4032-AE11-8470E4339EA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4411B-9FA3-4A05-A37A-732F3EFD365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0329-7ECF-482D-9E7A-CE8FEDC4186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A043-A174-4FD1-9A7A-71910E4141E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4E310-90AC-42A9-BF5C-F05B3F70385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9D35-CD8C-4E06-8101-89A81EB912D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D577E-76DA-4693-9380-1D992C8DE476}"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6A32-A8BE-4DC2-A6BC-3E16C1A3D19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307D-9398-48F0-848B-5FE7D4F1EF2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7019-4D19-4F17-963B-CC0DBF2A98BE}"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1264-AF67-43A9-8865-9A6243846AB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3EEB-8B5C-40C9-8BC3-7566352D362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D12C-335A-4C24-BC52-A4A45BD7E16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A6D88-C343-4A3D-A172-5E83C425BEC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